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EAC-F901-4E09-9299-2C577A93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FFA-C96E-4491-B097-2D5AB76A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5B7-4DF3-4000-B206-23F090C1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A29-F313-4977-89A6-0A4148F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5E9-E03E-4EBB-8046-F0D84C7E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29D-DAB6-4FEB-90CE-4CC6352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6EC-1AD2-49AA-A47A-FE42FC57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4A2-D8A6-4A68-9E0E-2CACED9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2EA-9EAA-4EA1-AFB8-56F8461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204-EA0B-4D31-9FD1-E6746D9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3D5-6C5F-4B87-AB28-CE318FD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235-3A21-4BAE-9986-48139B7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9DD-DD4D-4246-81BB-3624DDCE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755-76E4-4748-AC60-8B5582B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748F-D57D-4723-864A-1BEF6DCD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itl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Central Mexico- The valley of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- Tenochtit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-believed in many gods (like sun of god, thunder of god, rain of god and ot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other tribes as slaves and human sacri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3043080" cy="1752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5874840" y="5410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380600" y="5867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ms.ap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at the Mexican cost- Yucat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yas were 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22928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6095880" y="63244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13716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8839080" y="-27660600"/>
            <a:ext cx="24288480" cy="23317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995400" y="63244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mecompan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2857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ived in South America, in the Andes M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capital wa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 which means belief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s human sacrifice –(childre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133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80480" y="632448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oyer.pb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hostage, and Montezuma was killed in the fight that follow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came from Spain looking f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5803560" y="60199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on-bar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2857320" cy="2133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766520" y="6248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costfore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demanded that a room filled with gold and silver, &amp; then Atahualpa would be retu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trick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s and after they delivered the ransom, he did not re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hualpa an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n emperor was eventually kill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820040" y="624852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detisionlinesucces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37212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389960" y="63244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ing-gold.goldpr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conquistadors &amp; explorers changed Central &amp; South America forev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(2011) most of South &amp; Central America speaks Spa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(2011) majority of peoples in Central and South America are Christen, and no longer worship their native go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2:13Z</dcterms:created>
  <dc:creator>jklib</dc:creator>
  <dc:description/>
  <dc:language>en-US</dc:language>
  <cp:lastModifiedBy>Tim &amp; Karen</cp:lastModifiedBy>
  <dcterms:modified xsi:type="dcterms:W3CDTF">2011-11-30T23:13:31Z</dcterms:modified>
  <cp:revision>20</cp:revision>
  <dc:subject/>
  <dc:title>Conquerors and Pre Columbian Cilvization</dc:title>
</cp:coreProperties>
</file>